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E1E-57BE-4C7F-891C-3EA26DC2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19E-27D8-4491-A0A1-0A1EC27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A66-5687-49F5-ACA3-13B383BB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D59-6611-4151-9558-8F4CE1A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836-4381-4A25-99C1-701183E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687-C823-4093-AAD4-83B44FC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A21-C74A-48F1-8B9A-FD194A14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A73-B140-427D-B9C0-D84CEB3E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68B-DF38-4475-9903-C12052B2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5C8-E69A-44AE-988F-FBEC04B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891-7CA0-4DA1-9C75-A1B4399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0C8-0905-41FA-8E4A-01398B7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F02-DC3C-4B1F-BEB1-21DAEDBB0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457200"/>
            <a:ext cx="434340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 يا قو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ُ مخلصي ومُنقذ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ُ         يا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رب هو ترسي وملجأي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10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عوتُك يا رب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سمع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ِن مثوى الأمواتِ انتشل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بتُك في ضيقي استجبتَ ل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غَمرةِ حبكَ غمرت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44:50Z</dcterms:created>
  <dc:creator>SUZANNE.MD</dc:creator>
  <dc:description/>
  <dc:language>en-US</dc:language>
  <cp:lastModifiedBy>HANI SAFI</cp:lastModifiedBy>
  <dcterms:modified xsi:type="dcterms:W3CDTF">2003-05-22T17:04:57Z</dcterms:modified>
  <cp:revision>2</cp:revision>
  <dc:subject/>
  <dc:title>PowerPoint Presentation</dc:title>
</cp:coreProperties>
</file>